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wmf" ContentType="image/x-wmf"/>
  <Override PartName="/ppt/media/image27.jpeg" ContentType="image/jpeg"/>
  <Override PartName="/ppt/media/applause.wav" ContentType="audio/x-wav"/>
  <Override PartName="/ppt/media/image21.jpeg" ContentType="image/jpeg"/>
  <Override PartName="/ppt/media/chimes.wav" ContentType="audio/x-wav"/>
  <Override PartName="/ppt/media/image19.jpeg" ContentType="image/jpeg"/>
  <Override PartName="/ppt/media/image14.wmf" ContentType="image/x-wmf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7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13.png" ContentType="image/png"/>
  <Override PartName="/ppt/media/camera.wav" ContentType="audio/x-wav"/>
  <Override PartName="/ppt/media/image9.jpeg" ContentType="image/jpeg"/>
  <Override PartName="/ppt/media/image30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3.jpeg" ContentType="image/jpeg"/>
  <Override PartName="/ppt/media/image28.wmf" ContentType="image/x-wmf"/>
  <Override PartName="/ppt/media/image1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87B5-AF51-47DF-9E59-B6735BAD7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90E5-8019-4137-BA38-48EC2A91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111-C933-4C4E-8D7D-DC65221B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384-0BC7-4380-BDAA-078B0269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27314-6518-4E97-B403-31D8AFC3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0A57E-7AD6-431E-B61D-0D0AA16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43BF-1B36-4E44-8CFC-185A1227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7AFAA-F88D-4BD5-8072-B79590C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806BA-F3DE-47CE-99EE-2B6BC60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23F89-D2C1-48E9-B9D1-1DD4CC28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ED06F-E958-47AC-BC88-5F05CB9F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D9231-23C8-4FAF-8810-79831348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752F0-E14E-4CD1-A7ED-231E35BD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E85CD-A863-4C62-AABE-1F3A1A78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CC8-1E25-4455-8F33-3A56CC07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3AF37-9552-4231-A9CF-E4077DEF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A01E8-5297-47D4-80DE-1FCB5D6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396C0-BFE8-4B4D-9C20-624B9DDC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054B2-7EC3-4D26-9F7B-E42C2FEE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AB71D-FEC4-419A-8753-D879B6F0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34921-2349-4FCE-B5DC-9540BCC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0C317-9161-4A08-AC4E-D1EDCFD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18D97-D298-4F05-AEE1-AA92F4C7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BEC8D-DC29-4931-8E80-8CD9A36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A9EC6-81EA-4EF1-A44A-AFAC2861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010-F84F-4B34-BEB2-428E9DA3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430E8-01D5-4B38-860A-C824808D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D5D83-66C7-4ED4-A1DB-C856354D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E6BC0-78CD-4690-8B4B-C691979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11D72-35E0-498B-A409-9063C3D1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AC35-AF0B-4CE6-824E-A8B7A396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C6CD0-A8C1-4FBA-9FB5-860B2525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C9A0A-39B5-409E-8C7E-1D7D5A6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0AEF2-A888-4C9B-B818-6344CF6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88D2B-EBBC-4D16-892B-A7FDCAF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12E34-C879-4D6F-B196-4C02D52B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7072-4D73-4456-BF84-7333E4C5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63F88-2E60-4F8D-B22C-3BC24AAD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B7BD3-F295-4FE8-B967-32D36A28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C2391-4329-44BC-841F-A3A24E45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0B884-BB82-46A2-8005-06FEA8C0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B24F1-51D6-4EA9-BF1D-19876D6B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3C711-4564-4B25-ADD5-3B8DC36A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47901-E0E3-48C5-9E72-DE8A647F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71051-F2D5-49A9-9F50-1E915216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32E55-ED77-48A8-B6C2-E6B04682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5A1B9-F607-4D12-80D5-15965FE2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E22F-425F-4704-9EF2-285175C8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A49FF-944C-4EA0-A581-4750573C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7FEF7-E61F-4CE8-91F8-1D5FB09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CAD41-B0B4-43AD-8373-3A2B8C4D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F29DE-42C5-40BD-B4E3-11F40AFC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433BF-F929-410A-9709-CDC9A2A9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2E1B4-AE0F-4AA3-A98D-F76F0BE1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D6722-9CB8-4B50-B9FB-14F8278B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A8995-3EA6-4947-B467-DD5906D5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21C9F-E407-4ED1-976C-4B78F18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775EA-7096-404C-8156-2853417B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EFCF-12A1-443E-A95F-E304C299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1BFBB-E62F-47A7-9C55-D86648A1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BC97F-E153-47B7-BB22-4A969F7E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57B34-D696-4B02-ACCD-5047819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3D8C5-59B9-4CE0-B7E2-47203BF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FAEAC-1BA9-4184-9198-0BB8CCDB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222EB-5E22-4924-80C4-2B8B8AB9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3B7A3-A35C-43F3-A000-46ED5A4F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DC90-03D3-4F4E-BAA4-EA76EE51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8A63-634D-4A17-B252-C39F96DC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0A8C-F95D-46EB-AFCB-36423634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4AD1-B575-4E21-A349-FB0467B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A66-11A8-4DE0-B1DB-D6524707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B9D8-476C-49F8-B9A5-6352DF3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1017-A01D-4292-9BAD-8623E255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20D2-8549-4B05-AB4F-0B880F1B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0840-15D0-43DA-9EEA-AB6A1AFD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7DCB-F0FF-4F28-BF02-1F4B9AF4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4B3E-0845-4CAF-B755-667720AD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02333-6CAE-4346-BF82-AB4020E0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0F3E-2CC8-4A8D-8FD4-DE420EDB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8411-7805-4E0F-B286-5CF7DAF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76B8-B9F7-4A0A-A703-3737EA6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F05-9DA3-4A62-ADF7-37E63578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F23C-1559-4D2D-8F72-EF8F058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7338-E139-4CA0-BF47-812CF5D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CB38-8A2E-4D0F-9368-189D11BD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982B-63A6-468C-B180-D0E065EF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C275-7112-480E-A45C-EB08F671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4FB0-09FF-4394-AC4A-928CE37E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281C-898D-49DA-B7DB-0DBCFB97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974B-9DAC-407F-A444-400AC742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D0DD-83C7-4407-B9A0-8404A19B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57134-D987-40D9-A3C0-B6FEBCA8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9A4-2245-492D-8E4C-AD4DE9B1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86A34-B4A5-40BC-9B5B-9CFA7792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5B3C-96DA-4A07-A1BD-A1F5932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CEED2-364E-4F50-9902-9E49B5F3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356D-EE6D-4D5C-B85C-BD1A9DC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7952-91F5-4C72-9598-93C2694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8262-BDE6-4CD1-B194-BBCB688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08F3A-B111-478B-A02A-726A04FC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0655E-2FEC-45BA-AF16-26A71F23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3E31-0086-4225-A254-46DE9A86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BD3B0-F25A-4EB6-A991-A6AA68E4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7CF-97E3-420F-A5C0-8F0811C2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2127-28E9-4939-B89E-4DB275C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E2C5-B887-44BB-93D0-23367A5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682C-88A7-4623-8D64-78CD4AF3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285A-69CB-4AC2-ACE6-7C2DEA6B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CC6B-FFE2-4E5E-ADB5-2C5764C0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5C81D-099C-4012-ADB0-FA6274E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5BB1-2A92-4175-8E92-A44ECF9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3F7DA-AB58-4AE8-8633-D1FF5B7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B7D8-00EA-4E6A-BC1C-48AA432A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E7356-6BCC-4ED7-B8A9-C0D4C49C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FAA-CFF9-439A-9AF9-81F9D849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BE86-9B7B-48C1-BCA2-64E607F5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52BAA-E6FA-43DE-9310-AC4D76AC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52393-E1CB-4C60-8D19-4C1DAF3F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4AD13-5360-4B24-B3F4-13DAD182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0CCE-3621-4DAD-A538-3231307A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AD4B-74BD-4452-A86C-790E8210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857E-5BAC-4923-BA76-98ABF384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96497-BE7F-4396-A0D7-081442E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768C2-F3B6-43CC-A70B-2F5527F6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E642-3944-42BB-9E73-4EE23127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380-AF21-4994-A036-22BFDCE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71B4B-5302-436C-9B47-036C16D6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99F61-FD1B-43DD-90A4-F5950B98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26D6-A672-445E-BF53-12E3038C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5CE9-FC25-43C0-8423-34049E0F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59C7C-23D4-407F-BE72-67565172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8699-70CE-4A7C-A287-6D8F3C63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3815-88C1-45E5-864A-EF574FE6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24FAC-AA04-405A-B95D-3C06B4AD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CBE2F-39F6-4C10-AE11-FFA45AF6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D203-648C-4666-A6E8-A1A103D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A87-AE75-41F3-A033-D790C5F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6047D-4F86-402E-A20C-5CF9BCC4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532F6-6C05-4842-939A-15F7059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DCDEF-796F-4911-9295-4B064D80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9345-0DD4-4CAF-8006-A7ED287F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0F6B9-DB8F-4FA7-A3EA-8EB5CCCF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A1935-CF8B-4C85-B15F-F26DA51B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8FD8B-27FE-42EB-BD8A-CC6382AD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6BF65-46A1-4525-A8D7-E55E2ECE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1D69E-9003-4255-860F-C9C81376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CEE1A-4EBC-4355-91E3-0F110B08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78C-2BA3-4A6A-9FC1-9AAFD0DB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40507-1E13-4B2E-A4F9-90105D36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C0AA-91BE-408F-AFA2-89A79E1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83651-49C4-4070-8859-01470CA3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0BA4B-905C-4566-BD08-D9D3E20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D2D3D-756C-4765-BC8E-5772AD6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E575D-13EE-44D0-B56E-038FDAE6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D5E09-18CC-4362-9D70-BD8FEB25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3BC3A-08DE-4171-A058-F8D92684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0C987-381F-483F-9D13-2E37C2A4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8B1ED-DAEA-4037-942D-79B2CEC0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454-1518-423D-BD60-BFAF5031D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B212-5E1A-439B-9C7B-27E662C7F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6D60-B71F-4A83-BA48-7F5084CBA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7683-71D3-4B9B-A194-9654F23F0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9682-880F-48D6-B0C8-F585E2CA6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F046-16D8-464E-A113-525A92DA1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E01-48EB-417E-B55C-56C5631A9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FAF9-2B35-4652-B7CA-7EC369388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91ED-96B7-4FBC-A252-3154A843B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E460-F33E-4AC1-A77F-DD120F53B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3ED-DF04-44C0-82ED-7125D1FE8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04CA-A0FD-47A0-994B-966FE49A9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8939-A159-4544-9A0A-E76F4DC38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image" Target="../media/image2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jpe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562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Medium"/>
              </a:rPr>
              <a:t>If the Book Fits, Read I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Good Fi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257800" y="5181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arbara A. Smith Carolina Forest Elementary  Gra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0" descr="MCj04391420000[1]"/>
          <p:cNvPicPr/>
          <p:nvPr/>
        </p:nvPicPr>
        <p:blipFill>
          <a:blip r:embed="rId1"/>
          <a:stretch/>
        </p:blipFill>
        <p:spPr>
          <a:xfrm>
            <a:off x="380880" y="528480"/>
            <a:ext cx="8229600" cy="632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44" name="Picture 13" descr="MPj04394490000[1]"/>
          <p:cNvPicPr/>
          <p:nvPr/>
        </p:nvPicPr>
        <p:blipFill>
          <a:blip r:embed="rId2"/>
          <a:stretch/>
        </p:blipFill>
        <p:spPr>
          <a:xfrm>
            <a:off x="6095880" y="1371600"/>
            <a:ext cx="187812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5" name="TextBox 6"/>
          <p:cNvSpPr/>
          <p:nvPr/>
        </p:nvSpPr>
        <p:spPr>
          <a:xfrm>
            <a:off x="10666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il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0113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the purpose for your book. To write a report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urtles would you read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58128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905120" y="403848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turtles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257800" y="2666880"/>
            <a:ext cx="2438280" cy="3329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8" descr="Franklin Goes to Schoo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2666880"/>
            <a:ext cx="2971800" cy="3260880"/>
          </a:xfrm>
          <a:prstGeom prst="rect">
            <a:avLst/>
          </a:prstGeom>
          <a:ln w="0">
            <a:noFill/>
          </a:ln>
        </p:spPr>
      </p:pic>
      <p:pic>
        <p:nvPicPr>
          <p:cNvPr id="581" name="j0214098.wav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MPj03142960000[1]">
            <a:hlinkClick r:id="rId1" action="ppaction://hlinksldjump"/>
          </p:cNvPr>
          <p:cNvPicPr/>
          <p:nvPr/>
        </p:nvPicPr>
        <p:blipFill>
          <a:blip r:embed="rId2">
            <a:alphaModFix amt="67000"/>
          </a:blip>
          <a:stretch/>
        </p:blipFill>
        <p:spPr>
          <a:xfrm>
            <a:off x="1066680" y="990720"/>
            <a:ext cx="3657600" cy="1834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3" name="Picture 6" descr="MPPH03447I0000[1]"/>
          <p:cNvPicPr/>
          <p:nvPr/>
        </p:nvPicPr>
        <p:blipFill>
          <a:blip r:embed="rId3"/>
          <a:stretch/>
        </p:blipFill>
        <p:spPr>
          <a:xfrm>
            <a:off x="3505320" y="3276720"/>
            <a:ext cx="3657600" cy="2462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4" name="Text Box 7"/>
          <p:cNvSpPr/>
          <p:nvPr/>
        </p:nvSpPr>
        <p:spPr>
          <a:xfrm>
            <a:off x="5334120" y="762120"/>
            <a:ext cx="3276360" cy="20437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re RIGHT! You want to read about REAL turt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  <p:sndAc>
      <p:stSnd>
        <p:snd r:embed="rId4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you have these sho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clo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MPj04048860000[1]"/>
          <p:cNvPicPr/>
          <p:nvPr/>
        </p:nvPicPr>
        <p:blipFill>
          <a:blip r:embed="rId1"/>
          <a:stretch/>
        </p:blipFill>
        <p:spPr>
          <a:xfrm>
            <a:off x="914400" y="2438280"/>
            <a:ext cx="3352680" cy="239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7" name="Picture 11" descr="MCj04401990000[1]"/>
          <p:cNvPicPr/>
          <p:nvPr/>
        </p:nvPicPr>
        <p:blipFill>
          <a:blip r:embed="rId2"/>
          <a:stretch/>
        </p:blipFill>
        <p:spPr>
          <a:xfrm>
            <a:off x="5029200" y="2971800"/>
            <a:ext cx="3116160" cy="2084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4778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! Because you have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MPj04023300000[1]"/>
          <p:cNvPicPr/>
          <p:nvPr/>
        </p:nvPicPr>
        <p:blipFill>
          <a:blip r:embed="rId1"/>
          <a:stretch/>
        </p:blipFill>
        <p:spPr>
          <a:xfrm>
            <a:off x="5867280" y="1981080"/>
            <a:ext cx="20811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0" name="Picture 6" descr="MPj04285240000[1]"/>
          <p:cNvPicPr/>
          <p:nvPr/>
        </p:nvPicPr>
        <p:blipFill>
          <a:blip r:embed="rId2"/>
          <a:stretch/>
        </p:blipFill>
        <p:spPr>
          <a:xfrm>
            <a:off x="533520" y="2438280"/>
            <a:ext cx="3890880" cy="25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1" name="Text Box 8"/>
          <p:cNvSpPr/>
          <p:nvPr/>
        </p:nvSpPr>
        <p:spPr>
          <a:xfrm>
            <a:off x="1219320" y="5334120"/>
            <a:ext cx="2666880" cy="5205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5791320" y="5334120"/>
            <a:ext cx="2209680" cy="5205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books that you ar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00400" cy="46479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st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MPj04394930000[1]"/>
          <p:cNvPicPr/>
          <p:nvPr/>
        </p:nvPicPr>
        <p:blipFill>
          <a:blip r:embed="rId1"/>
          <a:stretch/>
        </p:blipFill>
        <p:spPr>
          <a:xfrm>
            <a:off x="4343400" y="2895480"/>
            <a:ext cx="388620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6" name="Picture 17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2" descr=""/>
          <p:cNvPicPr/>
          <p:nvPr/>
        </p:nvPicPr>
        <p:blipFill>
          <a:blip r:embed="rId3"/>
          <a:stretch/>
        </p:blipFill>
        <p:spPr>
          <a:xfrm>
            <a:off x="25909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6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7" descr=""/>
          <p:cNvPicPr/>
          <p:nvPr/>
        </p:nvPicPr>
        <p:blipFill>
          <a:blip r:embed="rId5"/>
          <a:stretch/>
        </p:blipFill>
        <p:spPr>
          <a:xfrm>
            <a:off x="25909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MSj00822000000[1].mid" descr=""/>
          <p:cNvPicPr/>
          <p:nvPr/>
        </p:nvPicPr>
        <p:blipFill>
          <a:blip r:embed="rId6"/>
          <a:stretch/>
        </p:blipFill>
        <p:spPr>
          <a:xfrm>
            <a:off x="31240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1" name="MSj00750610000[1].wav" descr=""/>
          <p:cNvPicPr/>
          <p:nvPr/>
        </p:nvPicPr>
        <p:blipFill>
          <a:blip r:embed="rId7"/>
          <a:stretch/>
        </p:blipFill>
        <p:spPr>
          <a:xfrm>
            <a:off x="26668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  <p:sndAc>
      <p:stSnd>
        <p:snd r:embed="rId8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8955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609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407" fill="hold"/>
                                        <p:tgtEl>
                                          <p:spTgt spid="5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761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356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that you understand what you are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9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astic hyoid, combined with the fibroelastic tissue on top of the big cats' undivided vocal folds, acts like a slide trombone, enabling the big cats to ro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MCj04344030000[1]"/>
          <p:cNvPicPr/>
          <p:nvPr/>
        </p:nvPicPr>
        <p:blipFill>
          <a:blip r:embed="rId1"/>
          <a:stretch/>
        </p:blipFill>
        <p:spPr>
          <a:xfrm>
            <a:off x="3809880" y="4267080"/>
            <a:ext cx="1198800" cy="1679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at you know mo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ers are the largest wild cat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weigh up to 720 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MPj04364520000[1]"/>
          <p:cNvPicPr/>
          <p:nvPr/>
        </p:nvPicPr>
        <p:blipFill>
          <a:blip r:embed="rId1"/>
          <a:stretch/>
        </p:blipFill>
        <p:spPr>
          <a:xfrm>
            <a:off x="3048120" y="3124080"/>
            <a:ext cx="2971800" cy="226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PICK  a Good-Fi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ose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pose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 want to rea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est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interest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prehend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understand what I am reading?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know most of the words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ppy Read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5" descr="MPj04276860000[1]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638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  <p:sndAc>
      <p:stSnd>
        <p:snd r:embed="rId2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Users\Barbara\AppData\Local\Microsoft\Windows\Temporary Internet Files\Content.IE5\E33YICPL\MCj04343890000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66880" y="838080"/>
            <a:ext cx="3353040" cy="52848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4"/>
          <p:cNvSpPr/>
          <p:nvPr/>
        </p:nvSpPr>
        <p:spPr>
          <a:xfrm>
            <a:off x="3276720" y="12193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ever wear a pair of shoes that were too large 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Pj04317940000[1]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1460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5562720" cy="10969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too sm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Pj04003050000[1]"/>
          <p:cNvPicPr/>
          <p:nvPr/>
        </p:nvPicPr>
        <p:blipFill>
          <a:blip r:embed="rId1"/>
          <a:stretch/>
        </p:blipFill>
        <p:spPr>
          <a:xfrm>
            <a:off x="3200400" y="2286000"/>
            <a:ext cx="2495520" cy="3121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324480" cy="16002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w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these shoe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MPj04048860000[1]"/>
          <p:cNvPicPr/>
          <p:nvPr/>
        </p:nvPicPr>
        <p:blipFill>
          <a:blip r:embed="rId1"/>
          <a:stretch/>
        </p:blipFill>
        <p:spPr>
          <a:xfrm>
            <a:off x="2057400" y="2481120"/>
            <a:ext cx="4876920" cy="3484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2" name="MSj00822000000[1].mid" descr=""/>
          <p:cNvPicPr/>
          <p:nvPr/>
        </p:nvPicPr>
        <p:blipFill>
          <a:blip r:embed="rId2"/>
          <a:stretch/>
        </p:blipFill>
        <p:spPr>
          <a:xfrm>
            <a:off x="74674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55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86400" cy="9907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play foot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86000" y="1523880"/>
          <a:ext cx="4724280" cy="460224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460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5" name="Picture 16" descr="MPj04305860000[1]"/>
          <p:cNvPicPr/>
          <p:nvPr/>
        </p:nvPicPr>
        <p:blipFill>
          <a:blip r:embed="rId1"/>
          <a:stretch/>
        </p:blipFill>
        <p:spPr>
          <a:xfrm>
            <a:off x="2514600" y="16765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556" name="MSSN00641A0000[1].wav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3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5638680" cy="15541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uld you w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se sh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MPj04049220000[1]"/>
          <p:cNvPicPr/>
          <p:nvPr/>
        </p:nvPicPr>
        <p:blipFill>
          <a:blip r:embed="rId1"/>
          <a:stretch/>
        </p:blipFill>
        <p:spPr>
          <a:xfrm>
            <a:off x="2209680" y="2209680"/>
            <a:ext cx="4800600" cy="342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9" name="MSj03885380000[1]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975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6172200" cy="13255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walk the beac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MPj04019860000[1]"/>
          <p:cNvPicPr/>
          <p:nvPr/>
        </p:nvPicPr>
        <p:blipFill>
          <a:blip r:embed="rId1"/>
          <a:stretch/>
        </p:blipFill>
        <p:spPr>
          <a:xfrm>
            <a:off x="2057400" y="2057400"/>
            <a:ext cx="5257800" cy="3503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2" name="Picture 14" descr=""/>
          <p:cNvPicPr/>
          <p:nvPr/>
        </p:nvPicPr>
        <p:blipFill>
          <a:blip r:embed="rId2"/>
          <a:stretch/>
        </p:blipFill>
        <p:spPr>
          <a:xfrm>
            <a:off x="80010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6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6002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? Then why read a book that doesn’t f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MPj04395080000[1]"/>
          <p:cNvPicPr/>
          <p:nvPr/>
        </p:nvPicPr>
        <p:blipFill>
          <a:blip r:embed="rId1"/>
          <a:stretch/>
        </p:blipFill>
        <p:spPr>
          <a:xfrm>
            <a:off x="3429000" y="2514600"/>
            <a:ext cx="289260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13716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shoe has a purpos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match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solidFill>
            <a:srgbClr val="bbe0e3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25920"/>
          </a:xfrm>
          <a:prstGeom prst="rect">
            <a:avLst/>
          </a:prstGeom>
          <a:solidFill>
            <a:srgbClr val="bbe0e3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MCj04400440000[1]"/>
          <p:cNvPicPr/>
          <p:nvPr/>
        </p:nvPicPr>
        <p:blipFill>
          <a:blip r:embed="rId1"/>
          <a:stretch/>
        </p:blipFill>
        <p:spPr>
          <a:xfrm>
            <a:off x="762120" y="2590920"/>
            <a:ext cx="1218960" cy="1047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9" descr="MPj0400652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1339560" cy="1676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MCj04370410000[1]"/>
          <p:cNvPicPr/>
          <p:nvPr/>
        </p:nvPicPr>
        <p:blipFill>
          <a:blip r:embed="rId3"/>
          <a:stretch/>
        </p:blipFill>
        <p:spPr>
          <a:xfrm>
            <a:off x="7086600" y="26668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MCj02352030000[1]"/>
          <p:cNvPicPr/>
          <p:nvPr/>
        </p:nvPicPr>
        <p:blipFill>
          <a:blip r:embed="rId4"/>
          <a:stretch/>
        </p:blipFill>
        <p:spPr>
          <a:xfrm>
            <a:off x="4800600" y="2666880"/>
            <a:ext cx="1827360" cy="1268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j0285698"/>
          <p:cNvPicPr/>
          <p:nvPr/>
        </p:nvPicPr>
        <p:blipFill>
          <a:blip r:embed="rId5"/>
          <a:stretch/>
        </p:blipFill>
        <p:spPr>
          <a:xfrm>
            <a:off x="7391520" y="4419720"/>
            <a:ext cx="1207800" cy="12906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MCj02857280000[1]"/>
          <p:cNvPicPr/>
          <p:nvPr/>
        </p:nvPicPr>
        <p:blipFill>
          <a:blip r:embed="rId6"/>
          <a:stretch/>
        </p:blipFill>
        <p:spPr>
          <a:xfrm>
            <a:off x="2666880" y="4724280"/>
            <a:ext cx="1594080" cy="12906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0" descr="MPj04388480000[1]"/>
          <p:cNvPicPr/>
          <p:nvPr/>
        </p:nvPicPr>
        <p:blipFill>
          <a:blip r:embed="rId7"/>
          <a:stretch/>
        </p:blipFill>
        <p:spPr>
          <a:xfrm>
            <a:off x="5029200" y="4648320"/>
            <a:ext cx="2057400" cy="1226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MCj04125520000[1]"/>
          <p:cNvPicPr/>
          <p:nvPr/>
        </p:nvPicPr>
        <p:blipFill>
          <a:blip r:embed="rId8"/>
          <a:stretch/>
        </p:blipFill>
        <p:spPr>
          <a:xfrm>
            <a:off x="2666880" y="2590920"/>
            <a:ext cx="14018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1:28:54Z</dcterms:created>
  <dc:creator>Barbara</dc:creator>
  <dc:description/>
  <dc:language>en-US</dc:language>
  <cp:lastModifiedBy>Gail</cp:lastModifiedBy>
  <dcterms:modified xsi:type="dcterms:W3CDTF">2009-03-24T02:31:23Z</dcterms:modified>
  <cp:revision>119</cp:revision>
  <dc:subject/>
  <dc:title>If the Book Fits,  Wear It!</dc:title>
</cp:coreProperties>
</file>